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26335-5C6E-41D9-BFB1-72B77EF5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865DD-881A-44AE-ACE7-911C4B6A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1D1D0-365D-433E-AF4A-32CF330F1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AC1AD-2CF2-433C-BD0F-58AC98C29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B04B5-DD39-4D24-A38B-BA5AD93D8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2D61B-ADA3-4106-BE80-4FE477E3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1DB87-F69B-44CC-B5A2-4784F3899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9A1C0-85EB-47BB-875A-352662EA8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D8872-C1B7-4821-B2A4-8D5D766E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23764-2794-48A4-AD90-F2E808EAB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CD444-3C80-4D2B-B6B2-0FCC2560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B57E1-08B7-4F27-8418-B00B90B56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0CC8-173F-426E-95EB-19E11E847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FB9A2-2D9F-4370-A352-452E6B6BA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BC98C-B9B3-415E-BCCD-A636A42DE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80C51-8769-4AAF-AD16-04E0E669E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0CAC2-0736-46E4-A9E2-35553D731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A75D5-54D4-4E5A-BA96-5D47F2185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0780D-F9C2-4A14-8063-901DC656C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016CE-7CDE-4187-B121-17D6A8083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9186C-EF75-4CB8-8D79-F6ED61EE8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C9C73-5AF2-4A93-A685-66C691031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F4D3-7DA9-43E2-80AA-8F18E9D80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490EC-5D9F-4D75-B4A2-856EC89DF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AAED6-FA10-4E27-A1C9-DA73A72B3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F6AA9-ACE8-4009-A7AD-976269775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03EB1-917B-4CA4-AA79-6E0C20D05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E2742-C6E9-44D5-AFA7-B41798A18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B7771-2C77-4E0D-B9A7-B84E99346A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925EB1-B220-44B7-AD1D-613738607A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AEE7-F808-412F-B46D-A8C1F888D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0FD28-5216-4670-9B5C-14C2C949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A04A-83EA-44EF-9E3A-96445B5B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9B27-4DBE-410C-A963-14DF82F5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AC9F-AB23-40FD-9E8C-FB43A30A9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3C46-AA50-4444-8712-410FF0AD9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83A5-AD2B-4BD0-8FA6-4D3C110F7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A177-AAE5-44B0-8959-425B6280967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5AF4-D947-40E3-AF99-C47D0571999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20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20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20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20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68360" y="83664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ofica</cp:lastModifiedBy>
  <dcterms:modified xsi:type="dcterms:W3CDTF">2012-06-18T11:10:13Z</dcterms:modified>
  <cp:revision>47</cp:revision>
  <dc:subject/>
  <dc:title>SALARIUL</dc:title>
</cp:coreProperties>
</file>